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27B-4E02-42C6-963F-3D54EB25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563-B221-4CD9-AD0F-1540666E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6F9-0613-4EC2-9A97-67889188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A73-D6A4-4539-AD26-778C25F5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A80E-6455-43C4-9FDB-A87C1F46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A3C5-628F-4D24-9FEB-B9F7329D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4204-6544-4CC2-B56A-6B2D6BBF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803B-C6F6-418F-9408-9BD47776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6A7A-51AE-41F8-98DD-6F686909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B122-A7B2-4D8F-905C-78C774AA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9128-8D1C-48F4-8D22-91C37081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70B-0345-4002-8091-35C60869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8417-6E12-49F2-A233-1A2D24A2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66B9-853C-495A-85EB-967E72F3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357B-B256-413E-88C5-253CC6A1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4749-CDBA-4EA1-8EA4-ED8127E9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024E-1302-4492-9E79-680E357F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80848-8963-4944-AE0D-D9419BCA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025E-1064-43CE-BBEB-15DDE178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0ED0D-3C6E-41C7-953C-ADC75BD7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0B67-1F28-4DBE-A063-53AA7B75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2557-8693-4B79-9A10-719981F8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277-38E4-4EBD-8131-544C4E25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7F7F-FC03-476B-8958-7FBDEFE9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C144-BA94-4DA9-93AA-3ADF7DC2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B32F2-2C6C-4E97-95D1-4D34755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B0CEA-25D5-4456-BED5-3D9423DD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E054-60A1-4BA6-AFBF-5BAC3887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BF88-D9DA-46C8-B265-FB901E9C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9BB5F-D368-4219-B1E8-4E38214B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7B2E0-34E7-4D1F-9A33-C3D870BF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35CCA-0727-4118-B686-5ADAA186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47CE-CC79-4939-9D58-D2A28A3F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B39-12AC-45C5-B6A8-B43E047B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95E1-2259-48C7-A24D-EC9D05F7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734B1-A283-4E88-BBBA-2F57029F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C2ED5-5103-44DD-AB32-DE68D0A9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73327-8B28-43F4-A81E-2FC8CE6D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E8A64-7C46-4AE0-B624-453699AA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DBC2-C936-404F-83E6-AB1C46D3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6DA4B-3E17-4EC7-84CC-4F983BD8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F5195-4608-44DB-901B-6F082813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96380-F8C5-4EB7-8182-059A7C80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765F6-09EB-45C2-8A39-87078506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C7F-7062-4C9E-906D-40FEB8A6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CDBB6-2F1E-42A4-A2BB-57CB1A9A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041B0-4760-42D1-8F54-EC1D8586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F47D-7D62-408C-A180-58BAD83C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A5391-9E54-4AAA-AFEE-40F67C32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64EA4-DCA0-46AB-871C-F983CF94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87F70-61E9-43AA-BF8A-EC491F14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D6FC5-6A05-4E0B-9005-932D1AA4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FB06B-A59E-431B-B483-8165994C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61A8-E7B5-4201-AC28-54CEA3A9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214E6-F6DA-4F6C-A838-8441B7B9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70B-5B92-471B-8F17-38F83437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9E545-5CBF-4C18-A728-F30D7544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F5847-EF3F-4371-A997-507C84A0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6E821-A0FF-41A9-BE5C-A6BE43BB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B6E73-A37B-48D7-98C8-2241260F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F06D9-4E10-4CC1-A35E-3138EC32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C7CE0-5E1E-455C-95A0-815E3B3D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6E3E6-BCDA-43A7-98AC-1D7DE792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5D484-23DE-40A0-9B42-56612DB1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44486-B3B9-4C48-8546-D946CD1F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0135D-2372-425D-9E07-8459A089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87A-B22A-46F9-8242-EE6DF20D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98D80-E92A-4445-9E2B-429CAE57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C72B4-65DE-4D40-9619-757A9670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8BD17-9899-4C0A-AF43-1DE4E706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27D7E-7E20-45F6-9744-DDDCC2A4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2494F-98B5-44C1-82D5-019B0801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4F742-77C7-442A-8D9C-3B3A9540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74F8C-5CA1-4B46-8B42-54CA3A61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DFADD-9968-48FF-B766-4D047C1E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6CB3F-FD39-41E5-B6A7-599C7AAD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4C131-7A2D-44A3-9BAD-FBDD0CC2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EE6-49B4-46A8-A0AF-A0072B0F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91A69-CD41-458D-B6C8-82769D3A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99243-258E-4447-AE36-CB27D344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F46BE-D6ED-414D-ABFD-7B94EDD3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3348A-BF6E-4B30-A345-563916D1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13461-EF2C-4470-AE2D-BE5B8382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3E064-544E-43BF-8969-87A89763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F8F55-855F-4DF5-910F-3CE2CE12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EA007-321A-47E4-813D-57B1AF1B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0983F-BA9C-40F5-BF21-943C6F4A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1A98B-FE03-47F1-9259-09540E07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9B2-39AA-4402-ABE4-3D21F34C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42CA6-0BE4-4C9B-9B6C-29A8B367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3AE9B-0220-490F-87BF-0CA21260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5E4C7-D6D5-49B6-9FB3-D869810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192AA-7092-4D4F-BBE3-EF3A2DFE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B6D6C-60FF-4BCB-87AA-6A801638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0E4E2-DF0E-480F-86E9-0C936E4A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0E515-2307-46E8-A813-53CA7DD5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84F4-8C30-4EDD-A027-0B3AEC9C45D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B252-EA26-4E57-9BE6-CB8A12C0FBE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26C1-19EF-450D-B88C-FECBD8844F4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48F4-6D28-4C64-9D6F-4E32960D695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4CA1-E2F0-43BE-B4C8-B74F60F1B6B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B93E-0F27-476E-9CCC-438B1005040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928D-54DE-4C3B-BED1-32E5CD17EDA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Прямоугольный треугольник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BBF4-ABF9-4E39-8D6A-B41EC3E4E0B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3645000" y="622440"/>
            <a:ext cx="590688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285720" y="285480"/>
            <a:ext cx="34290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Lucida Sans Unicode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Lucida Sans Unicode"/>
              </a:rPr>
              <a:t>Тема проекта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2071800" y="621504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ыктывкар.  2010 г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1928880" y="421488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Lucida Sans Unicode"/>
              </a:rPr>
              <a:t>Автор: студентка 4-го курса физико –математического факультета Карпова К.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E:\Documents\Катя\eg101207-7.jpg"/>
          <p:cNvPicPr/>
          <p:nvPr/>
        </p:nvPicPr>
        <p:blipFill>
          <a:blip r:embed="rId2"/>
          <a:stretch/>
        </p:blipFill>
        <p:spPr>
          <a:xfrm>
            <a:off x="-152280" y="725400"/>
            <a:ext cx="4389480" cy="3541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презентац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геометрические фигуры в архитектуре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de6c3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публикац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Природные творения в виде геометрических фигур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Заголовок 2" descr=""/>
          <p:cNvPicPr/>
          <p:nvPr/>
        </p:nvPicPr>
        <p:blipFill>
          <a:blip r:embed="rId1"/>
          <a:stretch/>
        </p:blipFill>
        <p:spPr>
          <a:xfrm>
            <a:off x="274680" y="122400"/>
            <a:ext cx="8717040" cy="134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71680" y="1428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Lucida Sans Unicode"/>
              </a:rPr>
              <a:t>В чем магия геометрических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Lucida Sans Unicode"/>
              </a:rPr>
              <a:t>фигур?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400px-Hexahedron"/>
          <p:cNvPicPr/>
          <p:nvPr/>
        </p:nvPicPr>
        <p:blipFill>
          <a:blip r:embed="rId2"/>
          <a:stretch/>
        </p:blipFill>
        <p:spPr>
          <a:xfrm>
            <a:off x="214200" y="2714760"/>
            <a:ext cx="2786040" cy="3098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20070921021819"/>
          <p:cNvPicPr/>
          <p:nvPr/>
        </p:nvPicPr>
        <p:blipFill>
          <a:blip r:embed="rId3"/>
          <a:stretch/>
        </p:blipFill>
        <p:spPr>
          <a:xfrm>
            <a:off x="3000240" y="3714840"/>
            <a:ext cx="2881440" cy="2881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image11271"/>
          <p:cNvPicPr/>
          <p:nvPr/>
        </p:nvPicPr>
        <p:blipFill>
          <a:blip r:embed="rId4"/>
          <a:stretch/>
        </p:blipFill>
        <p:spPr>
          <a:xfrm>
            <a:off x="5857920" y="2500200"/>
            <a:ext cx="3063960" cy="3063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Какие природные творения встречаются в виде геометрических фигур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Есть ли геометрические фигуры в архитектуре?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853920" y="133200"/>
            <a:ext cx="6796080" cy="1341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0680"/>
            <a:ext cx="82296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Есть ли геометрические фигуры в космосе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Что будет с геометрическими фигурами в будущем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5"/>
          <p:cNvSpPr/>
          <p:nvPr/>
        </p:nvSpPr>
        <p:spPr>
          <a:xfrm>
            <a:off x="428760" y="2858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Lucida Sans Unicode"/>
              </a:rPr>
              <a:t>Учебные предм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1428840" y="78588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Геометрия, ист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428760" y="1143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Lucida Sans Unicode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1428840" y="150012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ащиеся 7-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0"/>
          <p:cNvSpPr/>
          <p:nvPr/>
        </p:nvSpPr>
        <p:spPr>
          <a:xfrm>
            <a:off x="571680" y="2714760"/>
            <a:ext cx="742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познаний о возникновении геометрических фигур из практическ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геометрического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познаний в области гео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428760" y="19288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Lucida Sans Unicode"/>
              </a:rPr>
              <a:t>Дидак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1428840" y="1357200"/>
            <a:ext cx="5715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льзоваться языком геометрии для описания предметов окружающего ми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спознавать геометрические фигуры, различать их взаимное располо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спользовать знания и умения по геометрии в практической деятельности и повседнев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99680" y="428760"/>
            <a:ext cx="4614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еникам часто кажется, что геометрия – это скучный набор формул и фигур. И они не догадываются, что геометрические фигуры находят свое отражение практически во всех отраслях знаний:  архитектура,  искусство и т.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Picture 5" descr="706073"/>
          <p:cNvPicPr/>
          <p:nvPr/>
        </p:nvPicPr>
        <p:blipFill>
          <a:blip r:embed="rId1"/>
          <a:stretch/>
        </p:blipFill>
        <p:spPr>
          <a:xfrm>
            <a:off x="5286240" y="0"/>
            <a:ext cx="3857760" cy="5143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000080" y="499680"/>
            <a:ext cx="3929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еометрические фигуры, представляют собой могущественный инструмент познания природы, создания техники и преобразования мир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i-main-pic" descr="Картинка 3 из 151"/>
          <p:cNvPicPr/>
          <p:nvPr/>
        </p:nvPicPr>
        <p:blipFill>
          <a:blip r:embed="rId1"/>
          <a:stretch/>
        </p:blipFill>
        <p:spPr>
          <a:xfrm>
            <a:off x="5715000" y="571680"/>
            <a:ext cx="3095640" cy="492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Заголовок 7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8"/>
          <p:cNvSpPr/>
          <p:nvPr/>
        </p:nvSpPr>
        <p:spPr>
          <a:xfrm>
            <a:off x="1071720" y="1285920"/>
            <a:ext cx="728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 Подготовительный (осознание проблемной ситуации, выбор темы проекта, постановка це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. Проектировочный (выбор тем исследований учащихся, формирование групп для проведения исследова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3. Заключительный(защита проектов и подведение итог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2:39:23Z</dcterms:created>
  <dc:creator>Admin</dc:creator>
  <dc:description/>
  <dc:language>en-US</dc:language>
  <cp:lastModifiedBy>Dimon</cp:lastModifiedBy>
  <dcterms:modified xsi:type="dcterms:W3CDTF">2010-05-27T18:09:01Z</dcterms:modified>
  <cp:revision>103</cp:revision>
  <dc:subject/>
  <dc:title>Семь чудес света в геометрии  </dc:title>
</cp:coreProperties>
</file>